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move the slid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CA3C-D078-4067-8872-6E954A91A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9E33-9276-4B45-ADC3-B8EA305E2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CAA0-DEEE-40AD-9E8B-738580FED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1D9B-8541-4FE9-8108-6CD5800B7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0B26-C5BB-4465-83D7-208168D8D49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C42D3-0D03-48A5-BDD0-44A8EED0E74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79227-1554-4E8E-B344-2AF090935D7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DF718-C2ED-45F5-BE1E-082168C4DC0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ECC29-EA7D-4C25-BF33-553D3012931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9DF10-A567-4A3C-8EFF-B334DBAB8A4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25A81-FC97-4F06-88A8-95D26704B93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5712-EFD6-4510-8A5E-F22174CC9F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39331-801B-4D52-BB7A-1CDB6C6D93B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851F0-FB39-4EFB-996E-670E3FA8D29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CCE58-2613-44ED-9EBB-A4D2A1485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4842-E729-4B61-93B7-481BB95F326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BDC39-DF5D-492B-9B0B-98F6546BCE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DCD43-498B-423A-B587-BD66B3A44F4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2971A-BAE1-424C-81FE-37E2D7704EA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DFCF1-9638-470E-B1B7-22E064330A6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B34B77-DEEF-4E32-8DF2-E2564A9E56C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5C4FA-0A82-45AA-8ABD-DA7BBA0E5B8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9757B-F125-46D9-9AB5-5BE3DD5F0C3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B5EA5-02C1-4DA8-BB3C-BC6E9BCE4BD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D8C73-F0D4-4E7B-B417-6D38C6C9614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3F2BA-3FD4-4D03-A5AA-1C1FC74FE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C8F7-6E9A-470A-A551-D46B5EEC9EC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55BDD-2C4F-46EA-AE1C-A63E486C135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F1A94C-CC03-4511-8447-70293CB15A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42ADF3-4A2E-4D4F-AA9F-9576ED2B36B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778AE4-7715-44CA-BD93-E5A2530DB33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3DD7C2-C374-4F53-98B9-64C68383981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BCE42E-AD66-413A-AD12-3FBEC32A361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9081A3-BC14-4306-B8E9-BCD5E099CD2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E0F91C-3F54-4E5E-903D-57204222ACC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D824E9-B601-4659-AF09-1409B95517E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F6612A-62E8-490E-9F67-EDDD850B4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60E20-80FD-43CC-9060-315777D5DC1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57D7FE-D912-4FC4-9097-E90EEB28F25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49427E-A2DC-46B9-9348-94526C4497F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122841-8043-4140-A079-D9E5150E66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D96C5-0ACB-40B4-9AE2-D4127CCD825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8A30B-3B4A-4082-AF15-AB837AA8D52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D4A59-517E-4AFA-9A93-1AB1DBC5107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882D9-676D-4497-9B33-9E0529D529A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E2078-EE6E-45FF-B74D-26C22BD0D37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2109A-3EDD-4A6B-9686-842E4425921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E7549-E1C6-4699-89E9-7D11E21263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BEFB5-EE82-4645-A22D-34F3D03D150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3BB3F-F64A-4D60-B397-DB27092DCDA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6344F-1350-4BFD-A2A6-2E8D5053F7D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8A9EF-8DDE-425A-A02C-952C2D470BF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D7E09-4271-455F-BCD8-E21E7DB2F22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5889B-6C8E-4E56-888F-29A22B312B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1A2A2-4376-4259-985E-3A6A0421CA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C1980-C15C-4FAA-A835-72E78578FB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4C724-E985-49EF-BF39-DF2A760763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5D9AA-D64B-4D50-A298-C2742A626F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CE359-9F5A-4A15-B21F-A10580CC0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68C5-1E59-43D1-B7C0-82E10EAF1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55AD7-2F7E-469A-9FF8-08BDC1887C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1C16B-B7B0-4F0E-8505-F8020C59E8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CF03E-9BB4-428A-BF7B-02CEBCCD25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0F10F-46B7-463E-9F28-B9C8C6BDCE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E432C-ACAD-466A-AEFE-25EFF8815F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0118-EE73-47F1-9FFD-0AC0595291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500C-F4C0-43FF-A613-8F7999BD00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EE24-989E-4DD1-B138-46C1A5B162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DEE1-0379-41ED-8AE4-5A14DC85F5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C760-527F-41F2-BDD1-5E66712445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1FB0-2799-47B1-8DAC-1ED2188D63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FCEA-0324-4335-BDE7-DA8E10187D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CB4E-5BF5-4C56-AFCD-8DA63097F7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7301-86A6-48F2-A51D-D82F1ED4FE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3EC3-B90A-4531-B697-133325A363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B87D-1A9C-4AB9-8D6D-280EBE1CB6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DA3C-1C9A-4A80-B05B-D9F507F4A1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1973-6791-481F-88E0-3E5C417FE5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02DA9-3F9C-440B-A9B8-39BFD61F4C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11721-7D53-40FE-857F-FB7EF13D40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285DF-1782-4794-9AFE-C197E450A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1D43-043D-4C77-86E7-AACC8518B5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7D398-214E-4E31-A03D-F0DE4121ED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14CEB-AAE1-4AF0-A4E7-ACEA35BB07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F7465-30AE-40E0-9E2D-D1BED69EF8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A0A34-860D-42D2-9661-0ECD63D5EE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AFE17-5FFA-42CA-A3B0-DAD2DDD73F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E09C2-0690-4512-B6BB-777F6F40B0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3498D-3987-4AA6-A3EF-3651506DBD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9DDCB-EECB-4221-AB77-5E28EC770F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5B29C-B8ED-4175-98AC-89614C24C1F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86197-AD51-4B5B-8900-9DB878CFC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62E3-C2EF-4463-8EE6-B809378D0C1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0ADA6-2149-4E05-9D5F-888EAA43D0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0EB75-8FFC-43FA-8177-84E279393D1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AA918D-2C99-46B5-8B56-160180A1AFD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0030C-FCA0-45BA-AF85-91902942943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62D76-6F75-443A-9D05-4D532BB2D8A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E81DF-AE41-4EA0-9A00-B6B3FC03609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7842D-8D81-4308-AC56-AB3AFFAF056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87751-8ACC-4A9A-92E1-D0E913E2542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6AE92-0135-4641-8D69-75D4F9AB964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93FA36-D23B-45D5-943A-3BCE31B67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89C3-5D35-48BA-8F41-7A4B68F884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E937E9-70B2-410F-8952-DC818B12F29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7966B-F305-49DF-A257-3234DC1A23C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0200-CE78-4973-AD64-2331BF381F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E6F9-9A8E-46A4-860F-50BFA09FA6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CEB4-B06C-48E8-A3BD-13802C187AA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AB1BA-C9C7-4F5F-A39C-A4B405F211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34039-CCBC-41FA-A67A-ABF2B5D2F71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64DA6-97DA-4839-9279-357B73B997B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0572C-B3F7-441E-9961-8B34BF645B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104E-6F72-412F-9583-5686E4AAE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700A-60E0-4946-B1ED-63AFEDD4F4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ED6CC-040D-4ABB-B163-D555036DC25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90CC4-CC0A-44E1-ACC3-1BE550EA80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8F315-1261-4DFD-8E39-01789A94726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3C59D-BAB7-428E-8744-45BA7A9389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CC5B9-07B1-46AD-82DC-11F950116E7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04665-1AB6-4386-8840-C4ACACDDA72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B37D0-1C13-4DF7-BA56-0D503CA377A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23E0F-E5C1-4349-9A48-6C9A2E3079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19CD9-9179-4307-A030-86633023991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CED46-C81A-4A30-8F35-78010AF1A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D42B-8040-4272-99C5-9282248EFA8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96028-64A0-4755-A612-38962D73A4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94BEA-FF0E-44A6-BF5C-43534ECAA96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499F9-D1E9-4CF7-B3B5-B68207EC37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8075D-BFA8-46E1-B074-43F19B2DB5C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388F2-5276-4A3B-A9C1-9036C1FACDA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CF4554-17B0-44C3-9DB4-05615A249FB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BE32F4-A6C4-471B-BEC7-B7076EACE50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646B78-4FB0-47A0-9ABD-DFF93A0A592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3925B4-E0FA-4B6B-93A9-B4013F4F93F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786FE3-9DF8-4AEA-B935-F2CB4F688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005F-63C2-4665-B13A-87BE34B389D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DF615C-88ED-443F-A5E3-D46B6FB26C9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BA23B9-1E38-4746-B5F6-97D86ADF71C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248FFC-EF47-4B67-94B7-395CA572367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932E61-7A52-4814-AB77-30B02B81FF0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06782C-2174-4E32-9445-B09501B4B38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14278D-4E8B-4F42-BE46-1D9B3FFEDB8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2A052-6EA9-4814-AF4D-ACBB0DA8499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14DAE-3B1E-4AA1-8333-9B369FE0090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B134B-9F95-4C46-94E0-FC0F64A0F18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4AB2E-CA07-4B01-9E7B-79ABB264A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A4D2-42FF-4141-A92A-04B8E0B91823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9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0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21F0-0BD6-4344-AE35-3A0B0E285497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1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22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2EA8-8119-4D02-ACB6-BD83FA35D416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23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6CE4-D53E-4879-890B-472CC453A5A8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D1CD-B7EC-4E38-9A3B-999C8C055216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B557-A67E-460F-9BFB-FF29291B97B7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7923-D192-4C40-97E1-CCD3F34A96CF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9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0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DB0B-88FE-4999-9D0B-34636E4C8B11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1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2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3607-D627-4220-BACB-1B6A17D2AF90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3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54FE-4141-43EC-A586-A52EAEB6CCC3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5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6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A2A0-8836-4077-8664-CE9401DCB244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5" descr="nsidc_logo_notext"/>
          <p:cNvPicPr/>
          <p:nvPr/>
        </p:nvPicPr>
        <p:blipFill>
          <a:blip r:embed="rId2"/>
          <a:stretch/>
        </p:blipFill>
        <p:spPr>
          <a:xfrm>
            <a:off x="8458200" y="63244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Click to edit the title text format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8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7"/>
          </p:nvPr>
        </p:nvSpPr>
        <p:spPr>
          <a:xfrm>
            <a:off x="198108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Footer here. Sample content: tagline, conference title, presentation title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8"/>
          </p:nvPr>
        </p:nvSpPr>
        <p:spPr>
          <a:xfrm>
            <a:off x="228600" y="6419520"/>
            <a:ext cx="9907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B18E-AFD3-4DA8-B4F1-1E7F3B3F9825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0" y="2971800"/>
            <a:ext cx="9144000" cy="228600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13" descr=""/>
          <p:cNvPicPr/>
          <p:nvPr/>
        </p:nvPicPr>
        <p:blipFill>
          <a:blip r:embed="rId1"/>
          <a:stretch/>
        </p:blipFill>
        <p:spPr>
          <a:xfrm>
            <a:off x="76320" y="3078000"/>
            <a:ext cx="2835000" cy="21034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76720" y="312408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Garamond"/>
              </a:rPr>
              <a:t>NSIDC DAAC Accessioning and “De-commissioning” Plans</a:t>
            </a:r>
            <a:endParaRPr b="1" i="1" lang="en-US" sz="36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3276720" y="43434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Ruth Duer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8" name="Picture 20" descr="PPT_logo_tagline"/>
          <p:cNvPicPr/>
          <p:nvPr/>
        </p:nvPicPr>
        <p:blipFill>
          <a:blip r:embed="rId2"/>
          <a:stretch/>
        </p:blipFill>
        <p:spPr>
          <a:xfrm>
            <a:off x="4952880" y="838080"/>
            <a:ext cx="38322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- Categories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5320" indent="-26532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rchival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– The relative amount of work required in order to ingest and archive a data set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5320" indent="-26532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tadata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– The amount of work required to develop and maintain metadata not just for the data set as a whole; but also for any data element or service associated with the data set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5320" indent="-26532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ocumentation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– The amount of work required to document the data set and any associated web page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5320" indent="-26532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stribution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– The amount of work required to support data distribution or distribution-related service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5320" indent="-26532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SO Infrastructure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– A one time setup required in order to provide any level of USO support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5320" indent="-26532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SO Support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– The amount of work required to support human-human requests for information about or help with the data set (via any mechanism – phone, email, etc.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C9DE-CBAB-4F35-B811-94DDEC23A919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– How they work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33520" y="9903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2480" indent="-22248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oS are a relative weighting of effort to achieve a certain sta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2480" indent="-22248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numeric score is given to each sta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2480" indent="-22248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ores can be affected by a number of multiplicative factors, for example, for archival some of the factors ar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54400" indent="-222480"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ata provided on obsolete media - score is multiplied by 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54400" indent="-222480"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o format/structure modifications are needed - score is multiplied by .7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2480" indent="-22248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adjusted scores for each category are summed to produce a single number for a data s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2480" indent="-22248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difference in scores between two Levels of Service reflect the effort required/freed by moving a data set from one LoS to anot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2480" indent="-222480"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difference in scores between LoS scores for two different data sets reflect the difference in the effort needed to accept each data s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888F-A01F-4919-B6C6-0824B5D9076E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- Categories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3619-C2A3-43A6-9AAB-7AFC8EF49FEB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8580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– Low Effort Exampl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PI requests NSIDC to archive and distribute the data she acquired during a particular field campaign.  The data is in a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standard format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 is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vailable electronically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FTP pull) but is expected to be of interest to a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limited set of user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so only a </a:t>
            </a:r>
            <a:r>
              <a:rPr b="1" lang="en-US" sz="2800" spc="-1" strike="noStrike">
                <a:solidFill>
                  <a:srgbClr val="660066"/>
                </a:solidFill>
                <a:latin typeface="Garamond"/>
              </a:rPr>
              <a:t>skinny catalog entry and readme file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re scoped for development.  Fortunately, t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PI is willing to provide the metadata and information for the readme fi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  NSIDC expects to </a:t>
            </a:r>
            <a:r>
              <a:rPr b="1" lang="en-US" sz="2800" spc="-1" strike="noStrike">
                <a:solidFill>
                  <a:srgbClr val="660066"/>
                </a:solidFill>
                <a:latin typeface="Garamond"/>
              </a:rPr>
              <a:t>distribute the data via an FTP site and provide basic documentation support for end user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8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D6E4-1E41-407E-8709-FC34E8C04884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– Low Effort Exampl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81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2728-CAE2-4F42-AEFC-B5101A6832BE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838080" y="808200"/>
          <a:ext cx="7467840" cy="5364000"/>
        </p:xfrm>
        <a:graphic>
          <a:graphicData uri="http://schemas.openxmlformats.org/drawingml/2006/table">
            <a:tbl>
              <a:tblPr/>
              <a:tblGrid>
                <a:gridCol w="228600"/>
                <a:gridCol w="1462320"/>
                <a:gridCol w="1692000"/>
                <a:gridCol w="2179800"/>
                <a:gridCol w="1204920"/>
                <a:gridCol w="700200"/>
              </a:tblGrid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Categories and Desired St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 x Fa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val State - NSIDC 1-time ingest =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No format mods are needed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ve Tot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data State - Skinny catalog =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data Tot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 State - Advertised + Readm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PI willing to provide the Readme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 Tot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 State - FTP acces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 Tot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Services Infrastructure Prepa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Infrastructure Prep Tot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Services State - Documentation Support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Monthly user support exp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Services Tot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rand Total Score:  28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– High Effort Exampl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PI requests NSIDC to ingest and distribute a 10-year time series of daily observations.  T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observations are on-going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the PI would like NSIDC to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cquire them as soon as they are available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fter being QC’d by the PI.  The PI had developed a set of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OGC services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ith which to access the data and would like NSIDC to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continue supporting these servic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  Given t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sizeable user communit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PI has been supporting NSIDC agrees to do so.  However, t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ata set is complex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not all of which NSIDC has experience with, and t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PI does not like writing documentati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6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83BE-1DDE-4F27-9EC6-09279457D54B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NSIDC Levels of Service – High Effort Exampl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89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87D1-925C-473A-9AAF-AF69935AE191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838080" y="838080"/>
          <a:ext cx="7508880" cy="53881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2449800"/>
                <a:gridCol w="976320"/>
                <a:gridCol w="699840"/>
              </a:tblGrid>
              <a:tr h="296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Categories and Desired St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 x 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val State - NSIDC ogoing ingest = 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Need to develop ingest script =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ve To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data State - Catalog + Inventory Plus =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data To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275"/>
                        </a:spcBef>
                        <a:tabLst>
                          <a:tab algn="l" pos="0"/>
                          <a:tab algn="l" pos="162576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 State - Advertised + Full documentation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Limited PI Input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Complicated Data S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5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 To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 State - FTP +NSIDC advanced services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Automated pre-distribution code nee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 To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Services Infrastructure 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Infrastructure Prep To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8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Services State - NSIDC Technical Support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ecting factors: Daily user support expecte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Complex data set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Multiple access p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3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Services To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4807080"/>
                          <a:tab algn="l" pos="96138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rand Total Score:  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– Status and Plans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ughly a half dozen datasets have been put through the process and the queue is long and getting long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r working group attitude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Generally very supportiv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ther concerned that they will be inundated with request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SIDC may propose a modification to the process to more expeditiously handle small, low LoS requests without going through the UWG and NASA HQ step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6F6A-BC65-44A6-A3E8-495A0781D8B3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“De-commissioning” Plan – Status and Plans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oal – To provide the NSIDC DAAC a mechanism to lower the LoS for a data se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duate student from UIUC’s GSLIS data curation program interned at NSIDC last summ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eviewed all decommissioning/deaccessioning/etc. plans and wrote a report summarizing her finding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rafted a plan parallel to the DAAC Data Acceptance Plan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an has been internally reviewed by the DAAC manager and is awaiting updates for broader internal review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8A25-5B82-4521-8C7D-319A1A0A414A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“De-commissioning” Plan – Overview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762120" y="685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ny triggering event can start the process.  Example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ystems obsolescenc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etiring of key personn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oss of funding support or termination of contractual requiremen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eriodic review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duct team reviews existing materials, fills any gaps, and generates a recommendation (including potentially new Lo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rogrammatic consideration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cientific assessment (e.g., Uniqueness, literature references, etc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ata management considerations (e.g.,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ata file formats, hardware and software requirements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AAC UWG assesses DAAC materials and provides recommendation to NASA HQ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5EF9-58E2-46E1-8D35-003683AC076A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Outlin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AAC Data Acceptance Pla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evels of Servi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AAC Data Acceptance – Status and Pla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AAC Data “De-commissioning” Pla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93CF-A845-4CB4-A269-52846D4CBF7D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“De-commissioning” Plan – And then what?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f data is to be moved to the lowest LoS possible, what should that LoS be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f data is really to be decommissioned what processes for community notification, etc. need to be followed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f data is to move to an “archive of last resort” what needs to accompany it and how should that be done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at records must NSIDC keep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2E68-0D44-4730-9BAE-CBCC2581FA39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- Purpose 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sure that non-EOSDIS approved data and products submitted to the NSIDC DAAC […] are vetted and reviewed to be scientifically valid and viable for research applications.”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ASA approved product review process is used to recommend data sets for inclusion into the EOSDIS supported collection of NSIDC DAAC Standard Data sets.”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FF69-69DA-4F89-A100-B93A9C9009F1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- Heritag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SIDC Data Management Polic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scussions with EOSDIS and MeaSures progra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ccessioning plans from other agencies and organizations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FA4D-1842-4107-BE0C-08B7E3560DB3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– Process Overview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9903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bmission package completed and submitted to DAAC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AAC product team reviews the submis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AAC User Working Group assesses cost/benefits and makes a recommend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ASA HQ approves (or not) recommend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AAC implements approved reques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A62C-BBBC-4974-8CDE-3C845A344D17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10" descr="dataset-approval-process---v2"/>
          <p:cNvPicPr/>
          <p:nvPr/>
        </p:nvPicPr>
        <p:blipFill>
          <a:blip r:embed="rId1"/>
          <a:srcRect l="26127" t="12354" r="2700" b="1945"/>
          <a:stretch/>
        </p:blipFill>
        <p:spPr>
          <a:xfrm>
            <a:off x="5910120" y="885960"/>
            <a:ext cx="3081600" cy="5149800"/>
          </a:xfrm>
          <a:prstGeom prst="rect">
            <a:avLst/>
          </a:prstGeom>
          <a:ln w="0">
            <a:noFill/>
          </a:ln>
        </p:spPr>
      </p:pic>
      <p:sp>
        <p:nvSpPr>
          <p:cNvPr id="545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– Submission Package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posed titl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duct algorithm theoretical basi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ublication li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ustific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ata acquisition metho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uality and accuracy inform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nded or appropriate product uses and limita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ze, format, and ingest frequen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74B1-DB56-4F8E-8DBA-8A0B911B923D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– Product Team Review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uracy and completeness check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arison with similar data sets to estimate user bas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10-20 users/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38DC-1A32-4291-B2E6-63177AFCC479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3429000" y="1905120"/>
          <a:ext cx="563868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905120"/>
                    <a:ext cx="563868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– Product Team Review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AAC Justific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rogrammatic consideration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cientific assessmen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termine appropriate levels of servi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timate total effort required to achieve that Lo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9A37-6FBD-4023-AC3E-BF5C9AD050ED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a68"/>
                </a:solidFill>
                <a:latin typeface="Garamond"/>
              </a:rPr>
              <a:t>DAAC Data Acceptance Plan – User Working Group</a:t>
            </a:r>
            <a:endParaRPr b="1" i="1" lang="en-US" sz="3200" spc="-1" strike="noStrike">
              <a:solidFill>
                <a:srgbClr val="000a68"/>
              </a:solidFill>
              <a:latin typeface="Garamond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view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ientific mer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posed LoS (and adjusts if necessary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nticipated level of effort requir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s a recommend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2" name="Slide Number Placeholder 4"/>
          <p:cNvSpPr/>
          <p:nvPr/>
        </p:nvSpPr>
        <p:spPr>
          <a:xfrm>
            <a:off x="228600" y="6419880"/>
            <a:ext cx="99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E0C1-166C-450C-AFD5-B6E13C4AFF5A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5"/>
          <p:cNvSpPr/>
          <p:nvPr/>
        </p:nvSpPr>
        <p:spPr>
          <a:xfrm>
            <a:off x="1981080" y="640080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DAAC Data Acceptance Plan and “De-commissioning”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R. Duerr, 2010 winter ESIP Federation Meeting, Washington 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4:35:02Z</dcterms:created>
  <dc:creator>Ruth Duerr</dc:creator>
  <dc:description/>
  <dc:language>en-US</dc:language>
  <cp:lastModifiedBy>Ruth Duerr</cp:lastModifiedBy>
  <cp:lastPrinted>2002-10-01T17:30:54Z</cp:lastPrinted>
  <dcterms:modified xsi:type="dcterms:W3CDTF">2010-01-06T06:13:14Z</dcterms:modified>
  <cp:revision>6</cp:revision>
  <dc:subject/>
  <dc:title>NSIDC DAAC Accessioning and De-accessioning Plans</dc:title>
</cp:coreProperties>
</file>